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BE9-EC8E-4016-893A-6F9650B3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D87-F0F7-4CCC-8195-35DB3B11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808-674A-4C70-B048-9774BEE0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C0B-D90E-4C6D-B48F-DA319E89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832-42F2-4F46-80DB-37C5AB09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5A8-85DD-44AB-A8DB-5CF37631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8E5-FA69-43F1-9C23-5DA3B743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660-0970-4E4A-8060-628023F6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5CA-7AF1-46FE-9CCE-CC0D3D68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8B0-9E5D-4DF2-B666-97D06FAE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582-CAFA-485F-8A23-32D9AD3B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719-4C68-4869-B67E-A6EF83E1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B82A-3A7E-4D3A-B7A3-145961819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10117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09280" y="149400"/>
            <a:ext cx="9411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ركي يا نفسي الربَّ ولا تنسَي كل حسناته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، باركي يا نفسي الرب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، بارك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09720" y="2313000"/>
            <a:ext cx="5769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ذي يغفر كلّ آثام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ذي يشفي جميع   أمراض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يُنَجّي من الحفرة حيات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الرحمة دوماً يكلّلُ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95720" y="5940360"/>
            <a:ext cx="138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ذي يُشبعُ بالخيرِ عمرَكِ فيجدَِّد كالنَّسرِ شباب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ذي يملأُ احتياجاتك باركي ربّك يا نفسي باركي  باركي يا نفسي الر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9:33Z</dcterms:created>
  <dc:creator>USER</dc:creator>
  <dc:description/>
  <dc:language>en-US</dc:language>
  <cp:lastModifiedBy>USER</cp:lastModifiedBy>
  <dcterms:modified xsi:type="dcterms:W3CDTF">2002-10-30T15:43:48Z</dcterms:modified>
  <cp:revision>1</cp:revision>
  <dc:subject/>
  <dc:title>PowerPoint Presentation</dc:title>
</cp:coreProperties>
</file>